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9BE-0E02-4ADA-A401-676F5EFD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6D36-9A9C-41EC-A14D-6875C82E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9DA8F-11DB-4981-806A-3CA06BE5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CFFEA-75C8-4F10-82DC-B40C17FE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7E4A37-3E46-482F-BFAB-FBBB8897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843B66-8D64-42F2-A731-FB26CE4A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84FFBF-13F1-48D9-93B0-3F321833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D3D04C-939D-4BA1-9F64-96E8260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E3053-494E-4B93-ABB9-EED25CB3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778D5C-B916-4251-AF0E-8831BBC0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18C1D3-0A66-4357-AE17-23283989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42BFAA-F177-46C9-81E5-1263EA22F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28D-10EB-47C2-BCD0-80145465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746C73-8776-4100-A210-CBBCBE40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0F80EA-F458-449D-8E23-5CE746E1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19CF89-458F-45B4-AFD7-74B80190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B9820C-DDB4-4D1B-9AAE-59C8B1E3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42FA7-0745-4BA5-B6C5-6C02B322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C18BED-C885-45B9-9D3B-5D69516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711E01-7509-4816-A512-7B618D51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DCC90A-E591-4101-99D0-656A193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1D4C2-84B0-436D-86AC-D8CD96D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DA616F-920E-44E5-9213-F56EB426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EF41-F0EC-4DE2-BDF4-8B32AA5A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C80AB5-4FAE-49CC-A9D5-09093123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557651-44D4-4840-8D5F-AE062310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70D9C-28C6-4EE7-9575-46A188B32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D49FD-EE8F-4207-B9AB-F1DB051E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0BA52-D18F-4C9A-A25C-736187E8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08096-9952-4FDD-9924-19C70307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F1F5D-3719-41DB-A806-486E62E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DBB85-59B1-48DF-8C35-DB4C8FCF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54748-FFE7-4DE9-B25A-D4238221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1CA1B-9E59-4FF5-9F32-2CF9229B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177E-374D-4981-AF09-88ACDCCE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615CA-EB76-44E0-819E-D67B6BA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ED40A-46C1-4816-B6F4-0AFF3C24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5A2D6-0CBD-4BAF-81C1-1F3DA736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FD15EF-D68B-4931-A032-136EC53B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643551-C180-4D42-8D7F-BED0695A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9BBF70-467B-416F-A63F-5AD32173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E3DB71-D564-404B-ABF5-7040D466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C0C7D2-28E5-4EE6-9C05-183111BFA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419670-22ED-4700-8A5A-E1F6A047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CC4C8-198F-45E8-810E-4EEA1014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CF5A-5962-4530-AD61-BC5A9598C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B8B7F-1FB5-4E5D-9074-97F4C12F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C5F500-A81E-4273-9DB4-D934F15F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9E5EF2-BD67-4CEB-910E-B4AE5E4B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AD27E3-5797-415E-9B15-C2CD4E05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4C2800-5D6D-45F6-9491-E102EF16F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2271-498E-46AF-838B-0062C391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C58D-08E6-41C7-B177-E59D0A7E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7AF0-17C2-41BF-9EE4-A4C77518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AB7F-D882-4B54-97FB-7A1F3C88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0837-F704-4287-8852-281FD37B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213-4F4C-4991-9400-95638808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E4DD-AAE5-42BC-BCBB-93E1B335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23178-60EB-45C5-991A-935FC6FF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7CFBA-EE3A-411F-9D2E-E2FE57B9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BA40-B505-4305-8EB2-B96D4C6E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5D33-E697-42C6-9C52-AA9BE79B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DE152-A943-4353-8512-D3CF9EC5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5EE8-C38F-4BFB-AFA4-7E7223A8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79FD2-8179-421E-A563-2A08A3D5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B0EDB-B58C-4CF9-BFB5-5FDEC7DAA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71BD7-2425-45C4-9004-02920238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C845-6F45-471F-8A46-8B4E2AAB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9A9EE-3590-4710-8B10-B5D33DBD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A5AA-4373-4979-B99B-64E0B5B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50CFD-907F-4263-B726-9FC38089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53B7F-64B5-4AF5-8090-BD14BA4F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8FB3-07CB-4113-91E8-E1DD05C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83572-B1FC-4BC5-BC1E-AE6BEC359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F8C63-C270-4574-8405-803895C9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7E8B-FD70-426E-9BC4-BFBBA616D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3E9E4-75A0-475C-9DA5-585407E9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00F73-FB40-468B-89E6-ABD689EF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A07B-E935-4BE8-BDC4-30A6ED26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48774-BDF5-44F7-98C1-CFA798C9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4007E-741F-4DD5-8586-9ACD1EAD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0C0E6-3E6B-461E-B14B-296B8CDC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CED38-4E71-45F3-859D-6DA85E49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E5FC-9C69-4CA2-8F30-A073B713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FD20-48E7-41EC-AE72-6B9B131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9EA7E-88CE-4097-9E89-CB49BA6D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A840-34FB-4AE3-AB39-0CDC9124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7BE3A-1ACF-48F7-892C-2B1BAB8B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FC0EE-FE26-4666-A6C6-FF912C6D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5A0A-C72A-4AB7-BE1A-A4B0C100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4DFA1-3322-4B15-B600-1AD9C1C8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F5C56-3AA4-4AAD-8E2A-DD800FADD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5D302-4528-4890-80EB-14432718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7EEAA-3349-4B72-AA2A-BEF756F5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59EDA-8DB7-4D7E-A6A4-7BDF0A58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0AFE2-91A9-43DD-B370-3C99EE07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9DD2-98F3-4D2F-BE30-B5BFB62E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68096-A72F-4552-96B8-D1CD7E9A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FF43-7307-4BC8-A658-157B0917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194CB-EFFA-4AF7-BA92-8828CCCA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488D-035B-4B65-BD77-314653E0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B0D4B9-ACF1-42EE-B4C4-B020E899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183C-33EA-4EA4-ABF0-11C8A2A9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3EE81-9189-47CF-9553-4828AC3B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D8D2A5-9A72-4D91-9D2D-606F86BA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BAB9D-492C-46B4-80A6-C9B1E9F1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8EA1D-E25B-4A81-AA1F-6136AF7D6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632DC-90F7-4D6F-BAB8-1F9CBAE4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92324-1131-4FD2-B823-F6F71F7E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1767-B14B-421F-BC77-DDE82177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9FE0C-9BA4-415A-9B5E-9A9D9FFE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39AA-C113-4A8F-88C3-DEF6A55B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489D7-589B-4733-B2DE-6223C22F9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2A90A-8C0A-49A4-919C-B0A59FFB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9A1FD-E92E-47A1-8FAE-A8915CEE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F571B-DA79-4652-A835-C49DDED2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4C528-78E6-4470-8E3A-DCA9CCE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6876F7-5ACB-466F-9E80-911859CA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FC5AD-D17F-44E2-95D3-6D8521E8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7317-661C-40E1-BADC-41A1D8B6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34083-F432-45FB-99BD-E7CB5708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0ED854-85ED-46DB-AC9B-E6E5629C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A03-CB47-4DE4-8F72-99D33CC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AA33-DAE7-4EB7-A30E-D3F69A49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05880-96A0-4FA1-A4F3-617463A7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D45F0-7040-42A2-818D-FA1EAEA4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EB1AB-D1A0-45D8-8FF9-59B706EAD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E6D4D-CAB7-4D51-BB7D-DF19AE3B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7A4BE-9B8B-4E75-B1F9-9CA5D6D0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43C7FE-8619-4FA9-B2C1-AC535A45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B86D9-7990-42EF-B653-180075F3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6EB4E-601A-403A-97C9-22067C9D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AF9C2-DB41-4779-B80F-90414B7E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00FC-A0BD-42B5-870A-E117A00B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6A55F-3F08-467F-A2FF-E77EFBFA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8DEA4-2958-4BC0-B5A8-7941D5B7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CE8A1-CAD9-44BF-AE71-FEF191FE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B9E98-3A25-4B8F-8895-2C58C099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00EF0-A2AB-418D-BE55-F70AF718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EA07A-8B6E-4AA9-9507-F0A6925F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B472C-4809-48E6-8309-A9833CA9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8F89B0-5A7E-4A8C-B068-6F14162E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B99E7D-1E5C-47E7-951F-F8560F43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13CB3E-8B6E-4034-A1B7-D1BA729C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BE84-0437-47B2-A1B0-A9027007C50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6C4B-2456-4BBA-AF93-0A66C9CD29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E0D1-39DC-4280-9CE4-939258A7C4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4DF4-26BA-4184-A497-50833DABA8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5211-B820-4A0C-833C-28C5E155A6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8213C-3FE3-4A41-9642-FC98266DD55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DC62-6D6D-4629-8E46-355D7BA7DB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0D8-431B-4F01-8DC9-9F0675A7A1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B52-4C76-4482-A1FB-4A71910C14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1070-CACC-4654-903E-0CE722E17D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B737-B5EB-4153-8AD9-CD8B6D3E0A2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AE3C-AC2F-4511-B4F2-E396E84BAF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ed.com/talks/view/id/66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PRESENTED BY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46b86"/>
                </a:solidFill>
                <a:latin typeface="Georgia"/>
              </a:rPr>
              <a:t>JENNY S., ROBBIE B., SARAH S., ALYSSA Z. STEPH V., MARIKA M., WILL B., JACKSON G., NORA L.</a:t>
            </a:r>
            <a:r>
              <a:rPr b="1" lang="en-US" sz="1500" spc="-1" strike="noStrike">
                <a:solidFill>
                  <a:srgbClr val="646b86"/>
                </a:solidFill>
                <a:latin typeface="Georg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reativity for the Future: Based Off Video By Sir Ken Robins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olution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re programs in school that emphasize discussion, such as the Acade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ss stress on grades and more on learn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qual weight on all subjects, including core academic classes, music, art, dance, and theat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Vide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http://www.ted.com/talks/view/id/66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peaker Backgroun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r Ken Robinson has authored many books concerning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Knighted for his contribution toward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998- Chaired National Advisory Committee on Creative and Cultural Educa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Quotes/Anecdote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creativity is as important as literacy and should treat it with same statu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3:25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if you're not prepared to be wrong, you will never come up with anything original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6:0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"educating people OUT of our capacities"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-6:30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iccaso Quote: “All men are born artists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Issues Presented by Video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ducation undermines creative proces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chools fail to recognize talents of brilliant peo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By focusing on core subjects, ability to think creatively and effectively decrea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Problems with Today’s Socie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eachers grading students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etermining the level of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 to improve one’s creativi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radition vs. Modern thi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ignificanc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mportance of a new generation with the ability to think “out of the box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eople need more creativity to become successful instead of general knowledg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blem solving capabiliti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ndividuals become more open-min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Glenbrook Academ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Less busy work and memorization allows for enriching creative though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ncourage comprehensive thinking and discussions that will benefit later in busin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ovide thinking tools that cannot be replaced by cheap labor or robotic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search Claim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aniel Pink- Believes in order to become successful in the coming years, one needs the ability to use both the left and right side brai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cognized the emergence of displacing manual labor and the indispensible nature of jobs that promote creative left brained think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8:52:08Z</dcterms:created>
  <dc:creator>Brydon</dc:creator>
  <dc:description/>
  <dc:language>en-US</dc:language>
  <cp:lastModifiedBy>Brydon</cp:lastModifiedBy>
  <dcterms:modified xsi:type="dcterms:W3CDTF">2008-03-10T00:46:46Z</dcterms:modified>
  <cp:revision>18</cp:revision>
  <dc:subject/>
  <dc:title>Creativity for the Future</dc:title>
</cp:coreProperties>
</file>